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5C76-9F8F-4BEE-AC48-CDAC500A6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0A80-4B7D-4D60-9E5C-A24A14B3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C4766D-F74A-4126-A42C-4EF4CE83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B69EEC-97A5-48AE-8572-206F281F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181778-C91A-4186-97F3-69AA3D36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1EACEA-2AE7-4207-8BFD-3054ABFF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72E9E7-2506-44D2-929B-2CD00B8A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9E25E9-9144-4820-B784-24E45BC2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E829D3-7B0A-4C76-9162-09232D2E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259056-8C00-473E-A50E-2FEF863C0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C2F63C-DB0A-4FC6-90A7-56A7CA086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FD7C04-FB8D-4464-9A19-9345993BF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9766-2471-42AD-A2F1-0EEC8DB3E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BB37C0-6862-4215-A712-238C135F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640F11-F655-4E05-BCCD-35E25336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785BFC-3EEE-4D41-8AD8-52B6D8D7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BDBA7F-B27D-4CAA-9D4D-C1BFB20A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2AFFB4-5C14-40F9-B97A-09259415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C7D94A-A241-4975-81B4-77169811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6DFBEB-03E1-47A5-89AF-20671944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5B0350-A353-4B49-BA70-B75733A9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2696FB-BDB5-4224-88F1-B15EB592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FC6AB3-E10F-4596-8C40-104CD54A0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EBD4-3EB1-4CE8-86B0-105242470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A13069-BF1E-4A3B-B70A-BC21D2502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E1BB5-1174-45F3-8F77-D58AFACB8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CDEA5-664F-4E30-B261-86CEE14C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CB7C3-4ABF-42B2-8505-EAB69064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E79D1C-4EBD-4325-B19C-E4329694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F5A8D-9BE3-457C-80EA-C0596477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880D0-4EBD-4572-8384-0B0AA5F3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CB3D8-FE05-4F22-A937-7DB20EE4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CDEE7F-FCF4-4551-B750-67937B66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43834-954B-4A8F-91C9-35C0B8B0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66629-E064-494F-96D8-A0E0CFAFF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D0B51-3060-4ADE-AB43-DC065C76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6214F-D72F-4910-B85D-E02FFDA93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C1761-12BC-4098-AACC-A1F516D99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1D0106-DF4E-44D8-9B5D-FFFFAC5B9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575327-5D74-40A1-AA40-248623BB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615BEB-BCE7-41C0-8E81-E6E7BCC4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7315A7-579A-44FF-8246-3A48F8CE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F3580E-91DA-4349-AC81-9DC9550D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CF5E39-2010-42F5-A964-331BA218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E7762A-3437-4FBA-9CAA-53CBC4E6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CB47-A0CE-4889-BB9E-AF7F5588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84F50F-97CC-4741-973D-1D880C41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07467D-E7E0-4643-AD22-A6BB57D0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587FD0-4EE6-4CB9-91F1-389F2DFD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46E1A5-D494-471F-8846-5CD5C25B8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DEBAC4-3E68-44D0-8243-E52907D7A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A29C-B2F7-45A4-933F-65467C8E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E786-E82B-4B19-B595-4A137D85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4B05-A6ED-4B59-9733-5CA1C067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141F-A1DE-4422-9FE9-C57C383B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4CA3-83A5-45EC-AEEB-0C6AB168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75A2-38C9-464E-8719-6D4F8343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9CBA-890D-47C4-972D-FD849949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86A0-E400-428E-ADF6-4D5E131D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B796-3C82-427A-BA52-B573132A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AD0B-FD4C-4953-AADE-9067117F6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7552-9388-42F4-B42F-73CFD4C0E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5F415-85DA-4FCA-920C-345CF6D5A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0A39D-659A-4713-932D-2D14EAEB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517FD-76B4-49A1-B3D6-22ABE441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32FE0-7D97-4D2F-B7B5-71356CF2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60402-A75B-431A-8944-CA984406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07EC-3B5F-4841-BDD1-241C6073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9D945-2705-4831-B41E-D2C52D5D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8249B-AF77-40AC-9A6F-8BD6DE22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C3DD3-3F76-4A0C-9626-9C3BCCF8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7D97B-398A-4A89-8C58-B5CC6282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E984A-1B15-4A66-92A7-A1407D2F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F98BB-C279-4FB3-A697-04BC75A4E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8EE45-8F97-467F-B5F4-6BB8F3BB1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4DD4C-000F-4D5F-8C58-DC9D94436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9C42E-9604-4232-8688-3BB46F10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C39D3-F033-4345-81F5-2C6A690E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5AB3-13FD-4F39-B2CA-1F0138EE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BB2CF-9319-4C5A-939C-16A2B819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42652-670A-4108-9B5F-8B0A490F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2F2AB-AF63-4240-B6C4-02A1E5D6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83800-D5D0-4552-81F7-B5648DEC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543C3-1654-4B8C-BA72-286E3DE2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DA1A3-8EF4-4C34-96F0-18659653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547E7-DC34-4FB8-A5B8-5E46DFAF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C936A-1DD2-473F-A123-E34BC9D5C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250D8-5E96-4B0C-B339-B289733B5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A67BD-CE30-4158-9D82-6009B4A6D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0AA0-BB97-4352-93E3-9AB3F2F3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0B3EB-6850-490A-9F79-E623B457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3517A-9C60-4521-90CC-D8CBE7B0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CA018-6BE4-4E57-8D5B-8E2C3C53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3B48E-B4B5-47D2-BD0B-9B99B951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909FD-70D5-40EC-881E-AB3EFB80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6702E-2F6F-4F3C-8E2E-E6B113E8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E8334-A66E-4A05-8B9C-5059A875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18A01-4D3B-4482-8206-4BA70662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87366-B954-4BAE-B2A9-0E01A7F5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9A2F0-E49C-4775-80EE-951D95AD3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90A6-BB0A-43D9-8209-61377B11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C74BA-A613-4AD5-806A-4BA629A33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82752-3043-4531-80BC-809019045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4E721-EF23-4697-B648-5EF90E2A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DB8FD-7D38-4375-8F00-10328FAA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76B8D-9E18-420E-B5B7-2EDC28B1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01EC5-FCBB-46C3-A1B8-2AF089A3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83847-876D-46C2-A781-2EBC699E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5FEF0-C6F1-4975-85C2-43D338FF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216DD-ED08-4CCF-8230-EE3B0BDF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CE674-7C03-4581-9EC7-30F9EF4F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1435-71AD-456F-98AE-DB271F86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FBFB9-240B-463A-93DA-31CCBCD0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A74AA-0C4D-42AC-83F7-C9BA898E2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9E630-4C86-49B3-AF83-5E4E4EEBC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2EE92-1DB6-4EAE-B770-B22D1E944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38BDB-D446-4542-ADFB-7C149902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BDA25-D185-4A93-8843-EC51F660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7A42B-FE55-406B-BC7B-9904EBAE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5C57F-7B01-4702-9BED-79786822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F49DD-1DBF-4420-BC8C-6A5FB24C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DAEB5-B1B5-4A08-AF9D-844CBCF4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CCA9-EA42-4635-AE56-BC3B5DD0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74243-88ED-49BE-BC6D-C0F41953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0E1DE-00E8-481E-A528-A262DB45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A61A5-D75E-40C7-BD72-D2A6A661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62860-E112-4603-823F-49A522D64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8EE36-3CEB-4864-8933-BA8EA2EBA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9AD37-9412-44B4-90FE-E7B9D4109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A7D16-7B52-492C-BC32-2EFAC263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ECD3A-E7F4-41F6-AD11-E476DE41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EE6A7-B5BF-4FBA-A586-14068B03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F501E-CB33-4403-AB74-F9EB0C48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63F8-6ABF-40D9-99BD-2D02E086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A9D80-5653-4C4E-95CD-2B492B6F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E4CC6-F3A1-41E7-9E9D-C0476F4A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06DDA-FC1D-4862-956F-2CEDE216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DA4F0-E8BD-473F-91E1-E63F1779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77DA3-59A1-4DDB-8FBC-6233C310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E0035-8FC2-43D2-95B7-514364800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087E5-F4B2-45C7-ACA1-42FB89AD2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190F96-55F0-45A5-90EF-043F78D09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8FB7ED-63A4-4DA4-9CAB-BDA71E11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BBCEA5-7E30-47EE-AF64-9B7BCB3B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2D28-BFA0-4499-899F-31292330D030}" type="slidenum">
              <a:rPr b="0" lang="en-US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14A5-F5C1-4F9D-A92D-75C19416159C}" type="slidenum">
              <a:rPr b="0" lang="en-US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5BB4-6DD0-4B35-976B-C024901CB19B}" type="slidenum">
              <a:rPr b="0" lang="en-US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D3B4-20ED-46BE-A94E-748B672227EA}" type="slidenum">
              <a:rPr b="0" lang="en-US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74ED-1B23-4277-B402-8190BD3FDA6D}" type="slidenum">
              <a:rPr b="0" lang="en-US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1189-C820-448B-B9AF-602460167C1D}" type="slidenum">
              <a:rPr b="0" lang="en-US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F416-3699-499A-8EF7-3DC3D9D06C1E}" type="slidenum">
              <a:rPr b="0" lang="en-US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8A23-8DCB-4A89-8B06-8A53CD8ABD82}" type="slidenum">
              <a:rPr b="0" lang="en-US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F588-9AD9-449F-ABFC-5CDE1134EC38}" type="slidenum">
              <a:rPr b="0" lang="en-US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FF3C-5D7C-49C0-9141-236CB6178450}" type="slidenum">
              <a:rPr b="0" lang="en-US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B99F-2D25-4F33-9363-A767F42F3886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F718-A0C6-4FFE-9390-4929B8C3A9F7}" type="slidenum">
              <a:rPr b="0" lang="en-US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10" descr="istockphoto_1405302_breakdance_vecto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380520" y="19051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1" i="1" lang="en-US" sz="2700" spc="-1" strike="noStrike" u="sng">
                <a:solidFill>
                  <a:srgbClr val="00ff00"/>
                </a:solidFill>
                <a:uFillTx/>
                <a:latin typeface="Hippo"/>
              </a:rPr>
              <a:t>Projec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Georgia"/>
              </a:rPr>
              <a:t>I will spend time teaching the basic’s of breakdance to the students who want to learn in the Simon Gratz dance studio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723920" y="1752120"/>
            <a:ext cx="403884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500" spc="-1" strike="noStrike" u="sng">
                <a:solidFill>
                  <a:srgbClr val="00ff00"/>
                </a:solidFill>
                <a:uFillTx/>
                <a:latin typeface="Hippo"/>
              </a:rPr>
              <a:t>Research pape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00"/>
                </a:solidFill>
                <a:latin typeface="Georgia"/>
              </a:rPr>
              <a:t>   </a:t>
            </a:r>
            <a:r>
              <a:rPr b="0" lang="en-US" sz="2600" spc="-1" strike="noStrike">
                <a:solidFill>
                  <a:srgbClr val="00ff00"/>
                </a:solidFill>
                <a:latin typeface="Georgia"/>
              </a:rPr>
              <a:t>I will research the history of breakdance and prove how breakdancing link and influence a lot of things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3" name="WordArt 11"/>
          <p:cNvSpPr txBox="1"/>
          <p:nvPr/>
        </p:nvSpPr>
        <p:spPr>
          <a:xfrm>
            <a:off x="1828800" y="6172200"/>
            <a:ext cx="5562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ff99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Hippo"/>
              </a:rPr>
              <a:t>By BrAnDoN BrAdLeY</a:t>
            </a:r>
            <a:endParaRPr b="1" i="1" lang="en-US" sz="2800" spc="1" strike="noStrike">
              <a:ln w="12600">
                <a:solidFill>
                  <a:srgbClr val="ff99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Hippo"/>
              <a:ea typeface="Hippo"/>
            </a:endParaRPr>
          </a:p>
        </p:txBody>
      </p:sp>
      <p:sp>
        <p:nvSpPr>
          <p:cNvPr id="674" name="WordArt 12"/>
          <p:cNvSpPr txBox="1"/>
          <p:nvPr/>
        </p:nvSpPr>
        <p:spPr>
          <a:xfrm>
            <a:off x="457200" y="304920"/>
            <a:ext cx="76201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ff99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Hippo"/>
              </a:rPr>
              <a:t>   </a:t>
            </a:r>
            <a:r>
              <a:rPr b="1" i="1" lang="en-US" sz="1800" spc="1" strike="noStrike">
                <a:ln w="12600">
                  <a:solidFill>
                    <a:srgbClr val="ff99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Hippo"/>
              </a:rPr>
              <a:t>HiStOrY oF BrEaKdAnCiNg</a:t>
            </a:r>
            <a:endParaRPr b="1" i="1" lang="en-US" sz="1800" spc="1" strike="noStrike">
              <a:ln w="12600">
                <a:solidFill>
                  <a:srgbClr val="ff99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Hippo"/>
              <a:ea typeface="Hipp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Picture 22" descr="BasketballGam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 txBox="1"/>
          <p:nvPr/>
        </p:nvSpPr>
        <p:spPr>
          <a:xfrm>
            <a:off x="228600" y="18288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b400"/>
                </a:solidFill>
                <a:latin typeface="Georgia"/>
              </a:rPr>
              <a:t>            </a:t>
            </a:r>
            <a:r>
              <a:rPr b="0" lang="en-US" sz="2200" spc="-1" strike="noStrike">
                <a:solidFill>
                  <a:srgbClr val="ff9900"/>
                </a:solidFill>
                <a:latin typeface="Georgia"/>
              </a:rPr>
              <a:t>Project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ffff00"/>
                </a:solidFill>
                <a:latin typeface="Georgia"/>
              </a:rPr>
              <a:t>I will spend time at basketball practices and games and I will work with the coaches, players and referees at a church basketball leagu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4724280" y="1981080"/>
            <a:ext cx="4114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en-US" sz="2800" spc="-1" strike="noStrike" u="sng">
                <a:solidFill>
                  <a:srgbClr val="ff9900"/>
                </a:solidFill>
                <a:uFillTx/>
                <a:latin typeface="Georgia"/>
              </a:rPr>
              <a:t>Research Pap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I will research the history of basketball I will research the rules and regulations from the creator to the playe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8" name="WordArt 13"/>
          <p:cNvSpPr txBox="1"/>
          <p:nvPr/>
        </p:nvSpPr>
        <p:spPr>
          <a:xfrm>
            <a:off x="1752480" y="6019920"/>
            <a:ext cx="5791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By Marcus Reed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679" name="WordArt 23"/>
          <p:cNvSpPr txBox="1"/>
          <p:nvPr/>
        </p:nvSpPr>
        <p:spPr>
          <a:xfrm>
            <a:off x="1371600" y="0"/>
            <a:ext cx="63244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History of Basketball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 txBox="1"/>
          <p:nvPr/>
        </p:nvSpPr>
        <p:spPr>
          <a:xfrm>
            <a:off x="533520" y="1523520"/>
            <a:ext cx="403848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RESEARCH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Georgia"/>
              </a:rPr>
              <a:t>I WILL RESEARCH THE HISTORY OF GANGS / GANG VIOLENCE AND HOW ACTIVE GANGS ARE TODA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4723920" y="1523880"/>
            <a:ext cx="40388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Georgia"/>
              </a:rPr>
              <a:t>PROJECT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cc0000"/>
                </a:solidFill>
                <a:latin typeface="Georgia"/>
              </a:rPr>
              <a:t>I WILL CREATE AND PRESENT AN AWARENESS PROGRAM FOR THE KIDS AT THE COMMUNITY CENTER IN MY NEIGHBORHOOD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                            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3" name="WordArt 11"/>
          <p:cNvSpPr txBox="1"/>
          <p:nvPr/>
        </p:nvSpPr>
        <p:spPr>
          <a:xfrm>
            <a:off x="2514600" y="152280"/>
            <a:ext cx="44197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"/>
              </a:rPr>
              <a:t>GANGS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"/>
              <a:ea typeface="comic"/>
            </a:endParaRPr>
          </a:p>
        </p:txBody>
      </p:sp>
      <p:pic>
        <p:nvPicPr>
          <p:cNvPr id="684" name="Picture 15" descr="harlem_crip"/>
          <p:cNvPicPr/>
          <p:nvPr/>
        </p:nvPicPr>
        <p:blipFill>
          <a:blip r:embed="rId2"/>
          <a:stretch/>
        </p:blipFill>
        <p:spPr>
          <a:xfrm>
            <a:off x="152280" y="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17" descr="kitchen_crip"/>
          <p:cNvPicPr/>
          <p:nvPr/>
        </p:nvPicPr>
        <p:blipFill>
          <a:blip r:embed="rId3"/>
          <a:stretch/>
        </p:blipFill>
        <p:spPr>
          <a:xfrm>
            <a:off x="7391520" y="152280"/>
            <a:ext cx="1600200" cy="152424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19" descr="piru_sign"/>
          <p:cNvPicPr/>
          <p:nvPr/>
        </p:nvPicPr>
        <p:blipFill>
          <a:blip r:embed="rId4"/>
          <a:stretch/>
        </p:blipFill>
        <p:spPr>
          <a:xfrm>
            <a:off x="7315200" y="4952880"/>
            <a:ext cx="1628640" cy="1752840"/>
          </a:xfrm>
          <a:prstGeom prst="rect">
            <a:avLst/>
          </a:prstGeom>
          <a:ln w="0">
            <a:noFill/>
          </a:ln>
        </p:spPr>
      </p:pic>
      <p:sp>
        <p:nvSpPr>
          <p:cNvPr id="687" name="WordArt 20"/>
          <p:cNvSpPr txBox="1"/>
          <p:nvPr/>
        </p:nvSpPr>
        <p:spPr>
          <a:xfrm>
            <a:off x="152280" y="5791320"/>
            <a:ext cx="72392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AVIS WHIT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Picture 25" descr="t_18471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 txBox="1"/>
          <p:nvPr/>
        </p:nvSpPr>
        <p:spPr>
          <a:xfrm>
            <a:off x="151920" y="3200400"/>
            <a:ext cx="403884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Georgia"/>
              </a:rPr>
              <a:t>Reasearch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Georgia"/>
              </a:rPr>
              <a:t>Through this project I plan learn the mysteries of electricity and how it became to be the soul of the univers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0" name="WordArt 20"/>
          <p:cNvSpPr txBox="1"/>
          <p:nvPr/>
        </p:nvSpPr>
        <p:spPr>
          <a:xfrm>
            <a:off x="609480" y="380880"/>
            <a:ext cx="7086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GoudyHandtooled BT"/>
              </a:rPr>
              <a:t>The Evolution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GoudyHandtooled BT"/>
              <a:ea typeface="GoudyHandtooled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GoudyHandtooled BT"/>
              </a:rPr>
              <a:t>Electricit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GoudyHandtooled BT"/>
              <a:ea typeface="GoudyHandtooled BT"/>
            </a:endParaRPr>
          </a:p>
        </p:txBody>
      </p:sp>
      <p:sp>
        <p:nvSpPr>
          <p:cNvPr id="691" name="WordArt 27"/>
          <p:cNvSpPr txBox="1"/>
          <p:nvPr/>
        </p:nvSpPr>
        <p:spPr>
          <a:xfrm>
            <a:off x="1219320" y="6067440"/>
            <a:ext cx="61722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By Joy Johnson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92" name="Text Box 8"/>
          <p:cNvSpPr/>
          <p:nvPr/>
        </p:nvSpPr>
        <p:spPr>
          <a:xfrm>
            <a:off x="5410080" y="3276720"/>
            <a:ext cx="28195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b400"/>
                </a:solidFill>
                <a:latin typeface="Georgia"/>
              </a:rPr>
              <a:t>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b400"/>
                </a:solidFill>
                <a:latin typeface="Georgia"/>
              </a:rPr>
              <a:t>I will work with the school electrician to learn the tr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9" descr="http://visionsteen.com/blog/uploaded_images/teen-drugs-7355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9432b"/>
                </a:solidFill>
                <a:latin typeface="Neurochrome"/>
              </a:rPr>
              <a:t>DRUG ABUSE AND ADDIC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380520" y="2514600"/>
            <a:ext cx="403884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373d"/>
                </a:solidFill>
                <a:latin typeface="Baveuse"/>
              </a:rPr>
              <a:t>Project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373d"/>
                </a:solidFill>
                <a:latin typeface="Baveuse"/>
              </a:rPr>
              <a:t>	</a:t>
            </a:r>
            <a:r>
              <a:rPr b="0" lang="en-US" sz="1800" spc="-1" strike="noStrike">
                <a:solidFill>
                  <a:srgbClr val="2a373d"/>
                </a:solidFill>
                <a:latin typeface="Baveuse"/>
              </a:rPr>
              <a:t> </a:t>
            </a:r>
            <a:r>
              <a:rPr b="0" lang="en-US" sz="1800" spc="-1" strike="noStrike">
                <a:solidFill>
                  <a:srgbClr val="2a373d"/>
                </a:solidFill>
                <a:latin typeface="Baveuse"/>
              </a:rPr>
              <a:t>I will create an awareness program and present it to high school students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4876920" y="34290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373d"/>
                </a:solidFill>
                <a:latin typeface="Baveuse"/>
              </a:rPr>
              <a:t>Research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373d"/>
                </a:solidFill>
                <a:latin typeface="Baveuse"/>
              </a:rPr>
              <a:t>	</a:t>
            </a:r>
            <a:r>
              <a:rPr b="0" lang="en-US" sz="1800" spc="-1" strike="noStrike">
                <a:solidFill>
                  <a:srgbClr val="2a373d"/>
                </a:solidFill>
                <a:latin typeface="Baveuse"/>
              </a:rPr>
              <a:t>I will research the different types of drugs that are commonly used and their symptoms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1980720" y="6248160"/>
            <a:ext cx="40388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373d"/>
                </a:solidFill>
                <a:latin typeface="Baveuse"/>
              </a:rPr>
              <a:t>By: Rashonda Ratcliff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8" descr="http://www.autism2allstar.com/images/events/autism%20blaneket.JPG"/>
          <p:cNvPicPr/>
          <p:nvPr/>
        </p:nvPicPr>
        <p:blipFill>
          <a:blip r:embed="rId1"/>
          <a:stretch/>
        </p:blipFill>
        <p:spPr>
          <a:xfrm>
            <a:off x="152280" y="152280"/>
            <a:ext cx="8991720" cy="6172200"/>
          </a:xfrm>
          <a:prstGeom prst="rect">
            <a:avLst/>
          </a:prstGeom>
          <a:ln w="0">
            <a:noFill/>
          </a:ln>
        </p:spPr>
      </p:pic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1904760" cy="609840"/>
          </a:xfrm>
          <a:prstGeom prst="rect">
            <a:avLst/>
          </a:prstGeom>
          <a:solidFill>
            <a:srgbClr val="abf9f9"/>
          </a:solidFill>
          <a:ln w="9360">
            <a:solidFill>
              <a:srgbClr val="d16349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0d0d"/>
                </a:solidFill>
                <a:latin typeface="Heavy Heap"/>
              </a:rPr>
              <a:t>AUTISM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Flowchart: Data 9"/>
          <p:cNvSpPr/>
          <p:nvPr/>
        </p:nvSpPr>
        <p:spPr>
          <a:xfrm>
            <a:off x="6934320" y="152280"/>
            <a:ext cx="2209680" cy="2210040"/>
          </a:xfrm>
          <a:prstGeom prst="flowChartInputOutpu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I will prove that children with autism can function in the world the same as everyone el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lowchart: Data 11"/>
          <p:cNvSpPr/>
          <p:nvPr/>
        </p:nvSpPr>
        <p:spPr>
          <a:xfrm>
            <a:off x="0" y="4419720"/>
            <a:ext cx="2133720" cy="2209680"/>
          </a:xfrm>
          <a:prstGeom prst="flowChartInputOutpu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I will spend 15+ hours working at an elementary school with the autistic childr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lowchart: Data 13"/>
          <p:cNvSpPr/>
          <p:nvPr/>
        </p:nvSpPr>
        <p:spPr>
          <a:xfrm>
            <a:off x="3124080" y="6400800"/>
            <a:ext cx="4038840" cy="307800"/>
          </a:xfrm>
          <a:prstGeom prst="flowChartInputOutpu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LATOYA QUAR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00:59:55Z</dcterms:created>
  <dc:creator>carljones</dc:creator>
  <dc:description/>
  <dc:language>en-US</dc:language>
  <cp:lastModifiedBy>Michele Armstrong</cp:lastModifiedBy>
  <dcterms:modified xsi:type="dcterms:W3CDTF">2011-07-25T02:29:46Z</dcterms:modified>
  <cp:revision>95</cp:revision>
  <dc:subject/>
  <dc:title>Slide 1</dc:title>
</cp:coreProperties>
</file>